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9B7A5-A86B-4452-9C94-C507C5C1E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1D3DD-FCC7-4170-AA21-CD09BC59E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1BB7D-8AF2-4C7E-90BE-BDA4E6B5F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2720C-D843-4AE9-86C5-D64E2DC3A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62904-6AF9-4D63-ABA0-6413B951E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32591-CDFA-4ED7-9659-6EEE31504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3B6CC-FFEB-448F-8AAE-A93EF75F8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4F2CE-F3B6-4A64-9EE1-61757DE94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7AC13-0C03-4448-B457-686A12D3D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32FEF-DB26-4B51-80DC-0D1002778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E77D3-C624-4ECC-BC8A-972586B26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6813F-0FB8-40F4-985E-E71E6E8D7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82DC7-030E-4365-A7C4-024138936A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
          <p:cNvPicPr/>
          <p:nvPr/>
        </p:nvPicPr>
        <p:blipFill>
          <a:blip r:embed="rId1"/>
          <a:stretch/>
        </p:blipFill>
        <p:spPr>
          <a:xfrm>
            <a:off x="5257800" y="1752480"/>
            <a:ext cx="2943360" cy="30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5T12:31:25Z</dcterms:modified>
  <cp:revision>29</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